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F81-467C-429C-BCF1-533C0412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D34E-DBC8-458B-B38D-4802BCE5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4D8F-BC7B-465C-BDEF-27A845D2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1402-8F6C-477D-B76A-8D27F185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188-4871-4D54-BB3F-DFF13832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80E-78EA-4A6E-AFF3-33C125C5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C8AB-DF48-44FF-B6AD-EF5344BF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9B32-F234-4E41-A49F-876F2EF4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960-892A-4C73-9CA8-3995E282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6F16-BC46-4F74-8F2B-A82FDEF7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4DE-7E5B-4990-AA9F-500486A7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3B7E-C09A-4980-8C3F-A71BD64C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BCE6-0481-49FC-A556-19D87B3BD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032" t="11458" r="7032" b="8333"/>
          <a:stretch/>
        </p:blipFill>
        <p:spPr>
          <a:xfrm>
            <a:off x="380880" y="380880"/>
            <a:ext cx="8382240" cy="5867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76520" y="5791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ed by Patti Kra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7032" t="12394" r="5467" b="6359"/>
          <a:stretch/>
        </p:blipFill>
        <p:spPr>
          <a:xfrm>
            <a:off x="228600" y="609480"/>
            <a:ext cx="8534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7811" t="13540" r="6250" b="6251"/>
          <a:stretch/>
        </p:blipFill>
        <p:spPr>
          <a:xfrm>
            <a:off x="380880" y="457200"/>
            <a:ext cx="83822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7032" t="12502" r="6250" b="6251"/>
          <a:stretch/>
        </p:blipFill>
        <p:spPr>
          <a:xfrm>
            <a:off x="457200" y="53352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7032" t="12502" r="6250" b="6251"/>
          <a:stretch/>
        </p:blipFill>
        <p:spPr>
          <a:xfrm>
            <a:off x="380880" y="53352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7032" t="12502" r="7032" b="6251"/>
          <a:stretch/>
        </p:blipFill>
        <p:spPr>
          <a:xfrm>
            <a:off x="228600" y="262080"/>
            <a:ext cx="868680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6250" t="12197" r="5467" b="6143"/>
          <a:stretch/>
        </p:blipFill>
        <p:spPr>
          <a:xfrm>
            <a:off x="228600" y="457200"/>
            <a:ext cx="861048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7032" t="12502" r="6250" b="7294"/>
          <a:stretch/>
        </p:blipFill>
        <p:spPr>
          <a:xfrm>
            <a:off x="271440" y="488880"/>
            <a:ext cx="84582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7032" t="12502" r="5467" b="6251"/>
          <a:stretch/>
        </p:blipFill>
        <p:spPr>
          <a:xfrm>
            <a:off x="228600" y="457200"/>
            <a:ext cx="8534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7032" t="12502" r="6250" b="6098"/>
          <a:stretch/>
        </p:blipFill>
        <p:spPr>
          <a:xfrm>
            <a:off x="304920" y="380880"/>
            <a:ext cx="845820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7032" t="12502" r="6250" b="6295"/>
          <a:stretch/>
        </p:blipFill>
        <p:spPr>
          <a:xfrm>
            <a:off x="341280" y="460440"/>
            <a:ext cx="84582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7032" t="12502" r="6250" b="6251"/>
          <a:stretch/>
        </p:blipFill>
        <p:spPr>
          <a:xfrm>
            <a:off x="304920" y="60948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7032" t="12502" r="6250" b="7294"/>
          <a:stretch/>
        </p:blipFill>
        <p:spPr>
          <a:xfrm>
            <a:off x="304920" y="457200"/>
            <a:ext cx="8458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14:45:39Z</dcterms:created>
  <dc:creator>Chris Yeager</dc:creator>
  <dc:description/>
  <dc:language>en-US</dc:language>
  <cp:lastModifiedBy>Chris Yeager</cp:lastModifiedBy>
  <dcterms:modified xsi:type="dcterms:W3CDTF">2004-12-29T16:25:49Z</dcterms:modified>
  <cp:revision>5</cp:revision>
  <dc:subject/>
  <dc:title>Slide 1</dc:title>
</cp:coreProperties>
</file>